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51.jpeg" ContentType="image/jpeg"/>
  <Override PartName="/ppt/media/image23.wmf" ContentType="image/x-wmf"/>
  <Override PartName="/ppt/media/image41.jpeg" ContentType="image/jpeg"/>
  <Override PartName="/ppt/media/image6.jpeg" ContentType="image/jpeg"/>
  <Override PartName="/ppt/media/image50.jpeg" ContentType="image/jpeg"/>
  <Override PartName="/ppt/media/image16.jpeg" ContentType="image/jpeg"/>
  <Override PartName="/ppt/media/image25.jpeg" ContentType="image/jpeg"/>
  <Override PartName="/ppt/media/image84.jpeg" ContentType="image/jpeg"/>
  <Override PartName="/ppt/media/image61.jpeg" ContentType="image/jpeg"/>
  <Override PartName="/ppt/media/image74.png" ContentType="image/pn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65.jpeg" ContentType="image/jpeg"/>
  <Override PartName="/ppt/media/image92.jpeg" ContentType="image/jpeg"/>
  <Override PartName="/ppt/media/image39.jpeg" ContentType="image/jpeg"/>
  <Override PartName="/ppt/media/image66.jpeg" ContentType="image/jpeg"/>
  <Override PartName="/ppt/media/image67.jpeg" ContentType="image/jpeg"/>
  <Override PartName="/ppt/media/image93.jpeg" ContentType="image/jpeg"/>
  <Override PartName="/ppt/media/image22.png" ContentType="image/png"/>
  <Override PartName="/ppt/media/image83.jpeg" ContentType="image/jpeg"/>
  <Override PartName="/ppt/media/image24.jpeg" ContentType="image/jpeg"/>
  <Override PartName="/ppt/media/image69.jpeg" ContentType="image/jpeg"/>
  <Override PartName="/ppt/media/image76.jpeg" ContentType="image/jpeg"/>
  <Override PartName="/ppt/media/image82.jpeg" ContentType="image/jpeg"/>
  <Override PartName="/ppt/media/image71.jpeg" ContentType="image/jpeg"/>
  <Override PartName="/ppt/media/image70.jpeg" ContentType="image/jpeg"/>
  <Override PartName="/ppt/media/image81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80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85.jpeg" ContentType="image/jpeg"/>
  <Override PartName="/ppt/media/image26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91.png" ContentType="image/png"/>
  <Override PartName="/ppt/media/image27.jpeg" ContentType="image/jpeg"/>
  <Override PartName="/ppt/media/image10.jpeg" ContentType="image/jpeg"/>
  <Override PartName="/ppt/media/image8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AD9-3516-424D-97C4-94852D64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01F-789A-4EAF-A01D-8D457B2E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22C-EDC0-44CC-906D-710468BC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FEB-98AA-4CC1-B310-5D90858E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EBA7-D302-4E79-BF2E-444CBB91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8E72-4E0A-4B39-A2F1-F0042E04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47DB-69ED-4739-A385-8C2459E0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725B-46DB-46DE-B569-8F1AB8FC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6683-9FA5-4B65-B31B-93AD082F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C0ED-520F-4524-A66C-EA98B10F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4B4C-4B42-4DDB-8EF4-7C60DA32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336-FA1C-4074-BD88-4DB60606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26B7-2831-4CF9-A34D-95D4331B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E485-A51D-45E3-BDEC-7E90C2BF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F84F-EB93-457E-AF2D-BB64C286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6B40-10D9-4C77-8E85-34806423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384A-AC83-4B1B-9BBF-420CF81F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3EC-780A-492C-BA67-41DED99D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F43-AD2A-4139-8265-06EF57DA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2BA-8E94-4AC9-8C4B-4576CA77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EB8-A339-485A-8894-36344631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6F3-79F4-44D3-9ED2-E594197A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1E2-4CB7-4EB8-8A10-3E1ED4C3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DA8-2356-4901-9467-A45F9902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ckwell Extra Bol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ckwell Extra Bol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9376-B144-40D3-B96A-A55C7E1A5A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ockwell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ckwell Extra Bol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ckwell Extra Bol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2E7D-4F22-4B2A-A787-BD2B4B4EC24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ockwell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hyperlink" Target="http://av.rds.yahoo.com/_ylt=A0Je5W_aSppEqy8AVBCHBqMX;_ylu=X3oDMTBwanIybjRqBHBndANhdHdfaW1nX3Jlc3VsdARzZWMDc3I-/SIG=12h9cqp1p/EXP=1151048794/**http%3A//www.matrimoni-in.com/album/varie/IMAGE2/TN_brioche.JPG" TargetMode="External"/><Relationship Id="rId5" Type="http://schemas.openxmlformats.org/officeDocument/2006/relationships/image" Target="../media/image24.jpeg"/><Relationship Id="rId6" Type="http://schemas.openxmlformats.org/officeDocument/2006/relationships/hyperlink" Target="http://av.rds.yahoo.com/_ylt=A0Je5XCpIqFErm8BU5KHBqMX;_ylu=X3oDMTBwanIybjRqBHBndANhdHdfaW1nX3Jlc3VsdARzZWMDc3I-/SIG=126qskps8/EXP=1151497257/**http%3A//chriswetzler.gmxhome.de/pics/croissants.jpg" TargetMode="External"/><Relationship Id="rId7" Type="http://schemas.openxmlformats.org/officeDocument/2006/relationships/image" Target="../media/image25.jpeg"/><Relationship Id="rId8" Type="http://schemas.openxmlformats.org/officeDocument/2006/relationships/hyperlink" Target="http://av.rds.yahoo.com/_ylt=A0Je5XTiIqFELywAviKHBqMX;_ylu=X3oDMTBwanIybjRqBHBndANhdHdfaW1nX3Jlc3VsdARzZWMDc3I-/SIG=12dj2ei2g/EXP=1151497314/**http%3A//www.tribecaoven.com/breads/images/french_bread.jpg" TargetMode="External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XVxVJpEcgsBop2HBqMX;_ylu=X3oDMTBwanIybjRqBHBndANhdHdfaW1nX3Jlc3VsdARzZWMDc3I-/SIG=134vshl3f/EXP=1151051249/**http%3A//odelices.com/Recettes/Desserts/Tartes/Tarte_au_citron_meringuee_icone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av.rds.yahoo.com/_ylt=A0Je5XmiVJpEdIEB10CHBqMX;_ylu=X3oDMTBwanIybjRqBHBndANhdHdfaW1nX3Jlc3VsdARzZWMDc3I-/SIG=12ncdgir7/EXP=1151051298/**http%3A//chiba.cool.ne.jp/lovebirds/tartelette%2520aux%2520fruits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av.rds.yahoo.com/_ylt=A0Je5XRRVZpEHikAohaHBqMX;_ylu=X3oDMTBwanIybjRqBHBndANhdHdfaW1nX3Jlc3VsdARzZWMDc3I-/SIG=12ob95oth/EXP=1151051473/**http%3A//www.eidex.de/katalog/export/images/products/Werbe-Bonbons.jpg" TargetMode="External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XRcVppEWykAnkuHBqMX;_ylu=X3oDMTBwanIybjRqBHBndANhdHdfaW1nX3Jlc3VsdARzZWMDc3I-/SIG=126ovmiu5/EXP=1151051740/**http%3A//www.chefsimon.com/image3/demoul%2520022.jpg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hyperlink" Target="http://av.rds.yahoo.com/_ylt=A0Je5W7PVppE2hEBoB6HBqMX;_ylu=X3oDMTBwanIybjRqBHBndANhdHdfaW1nX3Jlc3VsdARzZWMDc3I-/SIG=1276an8vl/EXP=1151051855/**http%3A//homebaking.co.kr/photo/tarte-au-chocolat.jpg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av.rds.yahoo.com/_ylt=A0Je5XSjV5pEbCkAP12HBqMX;_ylu=X3oDMTBwanIybjRqBHBndANhdHdfaW1nX3Jlc3VsdARzZWMDc3I-/SIG=12mph6uj7/EXP=1151052067/**http%3A//gastronomie.philagora.org/patisserie/images/gateau-choc.jpg" TargetMode="External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W1qWJpEMAgBBFGHBqMX;_ylu=X3oDMTBwanIybjRqBHBndANhdHdfaW1nX3Jlc3VsdARzZWMDc3I-/SIG=127cq3el6/EXP=1151052266/**http%3A//www.baileys-sanibel.com/images/meat-pic1.jpg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av.rds.yahoo.com/_ylt=A0Je5XfBWJpEmTIAwWWHBqMX;_ylu=X3oDMTBwanIybjRqBHBndANhdHdfaW1nX3Jlc3VsdARzZWMDc3I-/SIG=12g92j05r/EXP=1151052353/**http%3A//www.promolux.com/english/images/pork_chop_display.jpg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av.rds.yahoo.com/_ylt=A0Je5W3nWJpELggBiYSHBqMX;_ylu=X3oDMTBwanIybjRqBHBndANhdHdfaW1nX3Jlc3VsdARzZWMDc3I-/SIG=1241k5e6s/EXP=1151052391/**http%3A//www.marchesmeats.co.uk/graphics/lamb2.jpg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://av.rds.yahoo.com/_ylt=A0Je5W0LWZpEaQwBNRaHBqMX;_ylu=X3oDMTBwanIybjRqBHBndANhdHdfaW1nX3Jlc3VsdARzZWMDc3I-/SIG=126l405jr/EXP=1151052427/**http%3A//www.loeul-et-piriot.com/images/gigolett.jpg" TargetMode="External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XWbW5pEcxEBEXWHBqMX;_ylu=X3oDMTBwanIybjRqBHBndANhdHdfaW1nX3Jlc3VsdARzZWMDc3I-/SIG=127kursfb/EXP=1151053083/**http%3A//www.elise.com/recipes/photos/pate_maison.jpg" TargetMode="External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hyperlink" Target="http://av.rds.yahoo.com/_ylt=A0Je5X17XJpEKAEARmKHBqMX;_ylu=X3oDMTBwanIybjRqBHBndANhdHdfaW1nX3Jlc3VsdARzZWMDc3I-/SIG=12a6edsf3/EXP=1151053307/**http%3A//www.saveurs.sympatico.ca/ency_6/porc/jambon.jpg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av.rds.yahoo.com/_ylt=A0Je5XkKCqFEkHABtyiHBqMX;_ylu=X3oDMTBwanIybjRqBHBndANhdHdfaW1nX3Jlc3VsdARzZWMDc3I-/SIG=126jjomri/EXP=1151490954/**http%3A//www.sandwichbaron.com/platters/crudites.jpg" TargetMode="External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hyperlink" Target="http://av.rds.yahoo.com/_ylt=A0Je5XDQXppEEHwBGyWHBqMX;_ylu=X3oDMTBwanIybjRqBHBndANhdHdfaW1nX3Jlc3VsdARzZWMDc3I-/SIG=12ke3m8rn/EXP=1151053904/**http%3A//sv.wikipedia.org/upload/thumb/9/9a/405px-Pizza_Funghi.jpg" TargetMode="External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av.rds.yahoo.com/_ylt=A0Je5X2tYJpEYAcAvxOHBqMX;_ylu=X3oDMTBwanIybjRqBHBndANhdHdfaW1nX3Jlc3VsdARzZWMDc3I-/SIG=12jfpkg8f/EXP=1151054381/**http%3A//www.poisson-saumon-fume.com/photos/gamme_trad_saumon.jpg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av.rds.yahoo.com/_ylt=A0Je5W7MYJpEdRkBmDmHBqMX;_ylu=X3oDMTBwanIybjRqBHBndANhdHdfaW1nX3Jlc3VsdARzZWMDc3I-/SIG=12o7rjat1/EXP=1151054412/**http%3A//www.marzipanworld.com/acatalog/marzipan%2520bread%2520jpg.jpg" TargetMode="External"/><Relationship Id="rId5" Type="http://schemas.openxmlformats.org/officeDocument/2006/relationships/image" Target="../media/image50.jpeg"/><Relationship Id="rId6" Type="http://schemas.openxmlformats.org/officeDocument/2006/relationships/hyperlink" Target="http://av.rds.yahoo.com/_ylt=A0Je5XIzYZpEDHgAco.HBqMX;_ylu=X3oDMTBwanIybjRqBHBndANhdHdfaW1nX3Jlc3VsdARzZWMDc3I-/SIG=12t4c7hmk/EXP=1151054515/**http%3A//www.bonneterre.fr/fichier/gammeproduit/yaourt-bicouche-gamme-2.jpg" TargetMode="External"/><Relationship Id="rId7" Type="http://schemas.openxmlformats.org/officeDocument/2006/relationships/image" Target="../media/image51.jpeg"/><Relationship Id="rId8" Type="http://schemas.openxmlformats.org/officeDocument/2006/relationships/hyperlink" Target="http://av.rds.yahoo.com/_ylt=A0Je5X2TYZpECgcAqVaHBqMX;_ylu=X3oDMTBwanIybjRqBHBndANhdHdfaW1nX3Jlc3VsdARzZWMDc3I-/SIG=12a53rqgd/EXP=1151054611/**http%3A//www.gcbc.net/images/Deighton/multi_biscuits.jpg" TargetMode="External"/><Relationship Id="rId9" Type="http://schemas.openxmlformats.org/officeDocument/2006/relationships/image" Target="../media/image52.jpeg"/><Relationship Id="rId10" Type="http://schemas.openxmlformats.org/officeDocument/2006/relationships/hyperlink" Target="http://av.rds.yahoo.com/_ylt=A0Je5XEXYppE74IBOWGHBqMX;_ylu=X3oDMTBwanIybjRqBHBndANhdHdfaW1nX3Jlc3VsdARzZWMDc3I-/SIG=12qpgg3gc/EXP=1151054743/**http%3A//www.bluebeach.com/img/catalogue/accessoires/boite_mouchoirs.jpg" TargetMode="External"/><Relationship Id="rId11" Type="http://schemas.openxmlformats.org/officeDocument/2006/relationships/image" Target="../media/image53.jpeg"/><Relationship Id="rId12" Type="http://schemas.openxmlformats.org/officeDocument/2006/relationships/hyperlink" Target="http://av.rds.yahoo.com/_ylt=A0Je5X3_I6FEKQMA45GHBqMX;_ylu=X3oDMTBwanIybjRqBHBndANhdHdfaW1nX3Jlc3VsdARzZWMDc3I-/SIG=127sic65c/EXP=1151497599/**http%3A//pedagosite.net/imagiers/img_0201/legumes.jpg" TargetMode="External"/><Relationship Id="rId13" Type="http://schemas.openxmlformats.org/officeDocument/2006/relationships/image" Target="../media/image54.jpeg"/><Relationship Id="rId14" Type="http://schemas.openxmlformats.org/officeDocument/2006/relationships/hyperlink" Target="http://av.rds.yahoo.com/_ylt=A0Je5W1KJKFEKAsBDEqHBqMX;_ylu=X3oDMTBwanIybjRqBHBndANhdHdfaW1nX3Jlc3VsdARzZWMDc3I-/SIG=12sq4sugq/EXP=1151497674/**http%3A//www.france-campagne.net/pratique/super/viande/large/viande030.jpg" TargetMode="External"/><Relationship Id="rId15" Type="http://schemas.openxmlformats.org/officeDocument/2006/relationships/image" Target="../media/image55.jpeg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av.rds.yahoo.com/_ylt=A0Je5W9VDKFE0yIAXR.HBqMX;_ylu=X3oDMTBwanIybjRqBHBndANhdHdfaW1nX3Jlc3VsdARzZWMDc3I-/SIG=12mbho09m/EXP=1151491541/**http%3A//www.chevalinfo.com/dosmois0/mai0400/cheval%2520magazine.jpg" TargetMode="External"/><Relationship Id="rId3" Type="http://schemas.openxmlformats.org/officeDocument/2006/relationships/image" Target="../media/image57.jpeg"/><Relationship Id="rId4" Type="http://schemas.openxmlformats.org/officeDocument/2006/relationships/hyperlink" Target="http://av.rds.yahoo.com/_ylt=A0Je5XyFDKFEfI0AOWCHBqMX;_ylu=X3oDMTBwanIybjRqBHBndANhdHdfaW1nX3Jlc3VsdARzZWMDc3I-/SIG=127b0a7im/EXP=1151491589/**http%3A//www.mcq.org/asterix/fr/i/affiche_asterix.jpg" TargetMode="External"/><Relationship Id="rId5" Type="http://schemas.openxmlformats.org/officeDocument/2006/relationships/image" Target="../media/image58.jpeg"/><Relationship Id="rId6" Type="http://schemas.openxmlformats.org/officeDocument/2006/relationships/hyperlink" Target="http://av.rds.yahoo.com/_ylt=A0Je5XXRDKFEDfwAcAOHBqMX;_ylu=X3oDMTBwanIybjRqBHBndANhdHdfaW1nX3Jlc3VsdARzZWMDc3I-/SIG=130383rbi/EXP=1151491665/**http%3A//www.ehapa.de/neuigkeiten/novitaeten/img/januar2002/marsupilami_13.jpg" TargetMode="External"/><Relationship Id="rId7" Type="http://schemas.openxmlformats.org/officeDocument/2006/relationships/image" Target="../media/image59.jpeg"/><Relationship Id="rId8" Type="http://schemas.openxmlformats.org/officeDocument/2006/relationships/hyperlink" Target="http://av.rds.yahoo.com/_ylt=A0Je5XwVDaFEfI0AjGqHBqMX;_ylu=X3oDMTBwanIybjRqBHBndANhdHdfaW1nX3Jlc3VsdARzZWMDc3I-/SIG=11ungqqh8/EXP=1151491733/**http%3A//216.158.169.103/prodimg/4772-10.jpg" TargetMode="External"/><Relationship Id="rId9" Type="http://schemas.openxmlformats.org/officeDocument/2006/relationships/image" Target="../media/image60.jpeg"/><Relationship Id="rId10" Type="http://schemas.openxmlformats.org/officeDocument/2006/relationships/hyperlink" Target="http://av.rds.yahoo.com/_ylt=A0Je5XjdDaFEgoEAZ3CHBqMX;_ylu=X3oDMTBwanIybjRqBHBndANhdHdfaW1nX3Jlc3VsdARzZWMDc3I-/SIG=12ribrcdd/EXP=1151491933/**http%3A//www.repubblica.it/gallerie/online/calciomercato2003/beck/3_g.jpg" TargetMode="External"/><Relationship Id="rId11" Type="http://schemas.openxmlformats.org/officeDocument/2006/relationships/image" Target="../media/image61.jpeg"/><Relationship Id="rId12" Type="http://schemas.openxmlformats.org/officeDocument/2006/relationships/hyperlink" Target="http://av.rds.yahoo.com/_ylt=A0Je5XUzDqFEV_wAxyqHBqMX;_ylu=X3oDMTBwanIybjRqBHBndANhdHdfaW1nX3Jlc3VsdARzZWMDc3I-/SIG=12jlq47oq/EXP=1151492019/**http%3A//www.web-ch.net/%7Ekarakvalle/image/sda/article/temps.jpg" TargetMode="External"/><Relationship Id="rId13" Type="http://schemas.openxmlformats.org/officeDocument/2006/relationships/image" Target="../media/image62.jpeg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XayD6FEWmQAhoiHBqMX;_ylu=X3oDMTBwanIybjRqBHBndANhdHdfaW1nX3Jlc3VsdARzZWMDc3I-/SIG=127acn024/EXP=1151492402/**http%3A//www.foodsubs.com/Photos/vegetables-group.jpg" TargetMode="External"/><Relationship Id="rId2" Type="http://schemas.openxmlformats.org/officeDocument/2006/relationships/image" Target="../media/image63.jpeg"/><Relationship Id="rId3" Type="http://schemas.openxmlformats.org/officeDocument/2006/relationships/hyperlink" Target="http://av.rds.yahoo.com/_ylt=A0Je5XjkD6FEpoIAlh2HBqMX;_ylu=X3oDMTBwanIybjRqBHBndANhdHdfaW1nX3Jlc3VsdARzZWMDc3I-/SIG=12h25hb20/EXP=1151492452/**http%3A//image60.webshots.com/60/4/39/58/427543958blTLSL_ph.jpg" TargetMode="External"/><Relationship Id="rId4" Type="http://schemas.openxmlformats.org/officeDocument/2006/relationships/image" Target="../media/image64.jpeg"/><Relationship Id="rId5" Type="http://schemas.openxmlformats.org/officeDocument/2006/relationships/hyperlink" Target="http://av.rds.yahoo.com/_ylt=A0Je5X0oEKFEBXcBZxaHBqMX;_ylu=X3oDMTBwanIybjRqBHBndANhdHdfaW1nX3Jlc3VsdARzZWMDc3I-/SIG=12p28g13i/EXP=1151492520/**http%3A//chunyang.blogs.com/photos/travel_beijin/all_u_want_is_meat.jpg" TargetMode="External"/><Relationship Id="rId6" Type="http://schemas.openxmlformats.org/officeDocument/2006/relationships/image" Target="../media/image65.jpeg"/><Relationship Id="rId7" Type="http://schemas.openxmlformats.org/officeDocument/2006/relationships/hyperlink" Target="http://av.rds.yahoo.com/_ylt=A0Je5Xa0EKFEW2UA_EqHBqMX;_ylu=X3oDMTBwanIybjRqBHBndANhdHdfaW1nX3Jlc3VsdARzZWMDc3I-/SIG=13j1vtvjl/EXP=1151492660/**http%3A//www.travelphotography.com/albums/philippines_baguio/baguio_market_fish_women_2.sized.jpg" TargetMode="External"/><Relationship Id="rId8" Type="http://schemas.openxmlformats.org/officeDocument/2006/relationships/image" Target="../media/image66.jpeg"/><Relationship Id="rId9" Type="http://schemas.openxmlformats.org/officeDocument/2006/relationships/hyperlink" Target="http://av.rds.yahoo.com/_ylt=A0Je5XLrIKFEHWoAPESHBqMX;_ylu=X3oDMTBwanIybjRqBHBndANhdHdfaW1nX3Jlc3VsdARzZWMDc3I-/SIG=129fuipld/EXP=1151496811/**http%3A//www.transfair.lu/Btm/esch/images/Vetements.jpg" TargetMode="External"/><Relationship Id="rId10" Type="http://schemas.openxmlformats.org/officeDocument/2006/relationships/image" Target="../media/image67.jpeg"/><Relationship Id="rId11" Type="http://schemas.openxmlformats.org/officeDocument/2006/relationships/hyperlink" Target="http://av.rds.yahoo.com/_ylt=A0Je5XdfIaFETzEA20.HBqMX;_ylu=X3oDMTBwanIybjRqBHBndANhdHdfaW1nX3Jlc3VsdARzZWMDc3I-/SIG=12ft5etoe/EXP=1151496927/**http%3A//www.idoukan.com/images/chaussures_pointues_coeur.jpg" TargetMode="External"/><Relationship Id="rId12" Type="http://schemas.openxmlformats.org/officeDocument/2006/relationships/image" Target="../media/image68.jpeg"/><Relationship Id="rId13" Type="http://schemas.openxmlformats.org/officeDocument/2006/relationships/hyperlink" Target="http://av.rds.yahoo.com/_ylt=A0Je5XegIaFEKTEAbH.HBqMX;_ylu=X3oDMTBwanIybjRqBHBndANhdHdfaW1nX3Jlc3VsdARzZWMDc3I-/SIG=136al55q9/EXP=1151496992/**http%3A//www.pepinieres-clement.com/images/images_poteries/poterie_couleur3_site.jpg" TargetMode="External"/><Relationship Id="rId14" Type="http://schemas.openxmlformats.org/officeDocument/2006/relationships/image" Target="../media/image69.jpeg"/><Relationship Id="rId15" Type="http://schemas.openxmlformats.org/officeDocument/2006/relationships/hyperlink" Target="http://av.rds.yahoo.com/_ylt=A0Je5W4IIqFEixABGiqHBqMX;_ylu=X3oDMTBwanIybjRqBHBndANhdHdfaW1nX3Jlc3VsdARzZWMDc3I-/SIG=1221m14lb/EXP=1151497096/**http%3A//www.terresacree.org/images/vannerie.jpg" TargetMode="External"/><Relationship Id="rId16" Type="http://schemas.openxmlformats.org/officeDocument/2006/relationships/image" Target="../media/image70.jpeg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W1KJqFE9QsBiSKHBqMX;_ylu=X3oDMTBwanIybjRqBHBndANhdHdfaW1nX3Jlc3VsdARzZWMDc3I-/SIG=12002oo0m/EXP=1151498186/**http%3A//www.plansa.com/images/medicaments.JPG" TargetMode="External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png"/><Relationship Id="rId6" Type="http://schemas.openxmlformats.org/officeDocument/2006/relationships/image" Target="../media/image75.jpeg"/><Relationship Id="rId7" Type="http://schemas.openxmlformats.org/officeDocument/2006/relationships/image" Target="../media/image76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57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1.png"/><Relationship Id="rId3" Type="http://schemas.openxmlformats.org/officeDocument/2006/relationships/image" Target="../media/image91.png"/><Relationship Id="rId4" Type="http://schemas.openxmlformats.org/officeDocument/2006/relationships/image" Target="../media/image91.png"/><Relationship Id="rId5" Type="http://schemas.openxmlformats.org/officeDocument/2006/relationships/image" Target="../media/image92.jpeg"/><Relationship Id="rId6" Type="http://schemas.openxmlformats.org/officeDocument/2006/relationships/image" Target="../media/image9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_39160549_trolley2_bbc_203"/>
          <p:cNvPicPr/>
          <p:nvPr/>
        </p:nvPicPr>
        <p:blipFill>
          <a:blip r:embed="rId1"/>
          <a:stretch/>
        </p:blipFill>
        <p:spPr>
          <a:xfrm>
            <a:off x="5508720" y="260280"/>
            <a:ext cx="3341520" cy="2503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shopping_spree"/>
          <p:cNvPicPr/>
          <p:nvPr/>
        </p:nvPicPr>
        <p:blipFill>
          <a:blip r:embed="rId2"/>
          <a:stretch/>
        </p:blipFill>
        <p:spPr>
          <a:xfrm>
            <a:off x="250920" y="2349360"/>
            <a:ext cx="2820960" cy="424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basket_round_shopping_thumb"/>
          <p:cNvPicPr/>
          <p:nvPr/>
        </p:nvPicPr>
        <p:blipFill>
          <a:blip r:embed="rId3"/>
          <a:stretch/>
        </p:blipFill>
        <p:spPr>
          <a:xfrm>
            <a:off x="6300720" y="4076640"/>
            <a:ext cx="2444760" cy="2444760"/>
          </a:xfrm>
          <a:prstGeom prst="rect">
            <a:avLst/>
          </a:prstGeom>
          <a:ln w="0">
            <a:noFill/>
          </a:ln>
        </p:spPr>
      </p:pic>
      <p:sp>
        <p:nvSpPr>
          <p:cNvPr id="91" name="WordArt 20"/>
          <p:cNvSpPr txBox="1"/>
          <p:nvPr/>
        </p:nvSpPr>
        <p:spPr>
          <a:xfrm>
            <a:off x="3348000" y="3141720"/>
            <a:ext cx="55450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Stout"/>
              </a:rPr>
              <a:t>Les magasins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pharmacie"/>
          <p:cNvPicPr/>
          <p:nvPr/>
        </p:nvPicPr>
        <p:blipFill>
          <a:blip r:embed="rId1"/>
          <a:stretch/>
        </p:blipFill>
        <p:spPr>
          <a:xfrm>
            <a:off x="2411280" y="2060640"/>
            <a:ext cx="50738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poissonnerie01grd"/>
          <p:cNvPicPr/>
          <p:nvPr/>
        </p:nvPicPr>
        <p:blipFill>
          <a:blip r:embed="rId1"/>
          <a:stretch/>
        </p:blipFill>
        <p:spPr>
          <a:xfrm>
            <a:off x="2340000" y="1628640"/>
            <a:ext cx="4681440" cy="37386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3780000" y="4365720"/>
            <a:ext cx="30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 Demi"/>
              </a:rPr>
              <a:t>    </a:t>
            </a:r>
            <a:r>
              <a:rPr b="0" lang="en-GB" sz="2400" spc="-1" strike="noStrike">
                <a:solidFill>
                  <a:srgbClr val="ffffcc"/>
                </a:solidFill>
                <a:latin typeface="Showcard Gothic"/>
              </a:rPr>
              <a:t>Poissonnerie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upermarche"/>
          <p:cNvPicPr/>
          <p:nvPr/>
        </p:nvPicPr>
        <p:blipFill>
          <a:blip r:embed="rId1"/>
          <a:stretch/>
        </p:blipFill>
        <p:spPr>
          <a:xfrm>
            <a:off x="2166840" y="1857240"/>
            <a:ext cx="4810320" cy="3516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276720" y="1989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Showcard Gothic"/>
              </a:rPr>
              <a:t>Supermarché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photodroitepresentation"/>
          <p:cNvPicPr/>
          <p:nvPr/>
        </p:nvPicPr>
        <p:blipFill>
          <a:blip r:embed="rId1"/>
          <a:stretch/>
        </p:blipFill>
        <p:spPr>
          <a:xfrm>
            <a:off x="2771640" y="1676520"/>
            <a:ext cx="3745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cremerie-v"/>
          <p:cNvPicPr/>
          <p:nvPr/>
        </p:nvPicPr>
        <p:blipFill>
          <a:blip r:embed="rId1"/>
          <a:stretch/>
        </p:blipFill>
        <p:spPr>
          <a:xfrm>
            <a:off x="2050920" y="1773360"/>
            <a:ext cx="52088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winkel"/>
          <p:cNvPicPr/>
          <p:nvPr/>
        </p:nvPicPr>
        <p:blipFill>
          <a:blip r:embed="rId1"/>
          <a:stretch/>
        </p:blipFill>
        <p:spPr>
          <a:xfrm>
            <a:off x="2004840" y="1638360"/>
            <a:ext cx="5134320" cy="3581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2050920" y="162864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Showcard Gothic"/>
              </a:rPr>
              <a:t>Parfumerie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ladroguerielyon"/>
          <p:cNvPicPr/>
          <p:nvPr/>
        </p:nvPicPr>
        <p:blipFill>
          <a:blip r:embed="rId1"/>
          <a:stretch/>
        </p:blipFill>
        <p:spPr>
          <a:xfrm>
            <a:off x="2411280" y="1700280"/>
            <a:ext cx="46911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Pressing_duleman01"/>
          <p:cNvPicPr/>
          <p:nvPr/>
        </p:nvPicPr>
        <p:blipFill>
          <a:blip r:embed="rId1"/>
          <a:stretch/>
        </p:blipFill>
        <p:spPr>
          <a:xfrm>
            <a:off x="2411280" y="1700280"/>
            <a:ext cx="46688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boulangerie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pain (des baguette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pain de campagne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roiss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pains au choc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viennoise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(des brioches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sucet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1"/>
          <a:stretch/>
        </p:blipFill>
        <p:spPr>
          <a:xfrm>
            <a:off x="5580000" y="4149720"/>
            <a:ext cx="1281240" cy="165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6" name="Picture 12" descr="painschocolat"/>
          <p:cNvPicPr/>
          <p:nvPr/>
        </p:nvPicPr>
        <p:blipFill>
          <a:blip r:embed="rId2"/>
          <a:stretch/>
        </p:blipFill>
        <p:spPr>
          <a:xfrm>
            <a:off x="5508720" y="3067200"/>
            <a:ext cx="1511280" cy="108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j0331495[1]"/>
          <p:cNvPicPr/>
          <p:nvPr/>
        </p:nvPicPr>
        <p:blipFill>
          <a:blip r:embed="rId3"/>
          <a:stretch/>
        </p:blipFill>
        <p:spPr>
          <a:xfrm rot="3190800">
            <a:off x="5856840" y="5499720"/>
            <a:ext cx="892080" cy="130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48360" y="4508640"/>
            <a:ext cx="1019160" cy="1047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08720" y="2157480"/>
            <a:ext cx="1439640" cy="91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0" name="Picture 19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08720" y="1052640"/>
            <a:ext cx="1439640" cy="1000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pâtisserie, on peut acheter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gâteaux</a:t>
            </a: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tar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tartelet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bonb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2492280"/>
            <a:ext cx="1224000" cy="808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4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421080"/>
            <a:ext cx="1224000" cy="94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5" name="Picture 11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508640"/>
            <a:ext cx="1224000" cy="93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6" name="Picture 15" descr="fruit_gateau"/>
          <p:cNvPicPr/>
          <p:nvPr/>
        </p:nvPicPr>
        <p:blipFill>
          <a:blip r:embed="rId7"/>
          <a:stretch/>
        </p:blipFill>
        <p:spPr>
          <a:xfrm>
            <a:off x="5003640" y="1413000"/>
            <a:ext cx="1224000" cy="95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outique"/>
          <p:cNvPicPr/>
          <p:nvPr/>
        </p:nvPicPr>
        <p:blipFill>
          <a:blip r:embed="rId1"/>
          <a:stretch/>
        </p:blipFill>
        <p:spPr>
          <a:xfrm>
            <a:off x="2411280" y="2004840"/>
            <a:ext cx="45370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chocolaterie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gâteaux au choc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tartes et tartelet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au choc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glaces au choc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bonbons au chocola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4654440"/>
            <a:ext cx="1295280" cy="9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0" name="Picture 7" descr="gateau-glace-au-chocolat-et-a-la-chantilly"/>
          <p:cNvPicPr/>
          <p:nvPr/>
        </p:nvPicPr>
        <p:blipFill>
          <a:blip r:embed="rId3"/>
          <a:stretch/>
        </p:blipFill>
        <p:spPr>
          <a:xfrm>
            <a:off x="5508720" y="3429000"/>
            <a:ext cx="1295280" cy="10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9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2421000"/>
            <a:ext cx="1295280" cy="77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2" name="Picture 11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08720" y="1341360"/>
            <a:ext cx="129528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boucherie, on peut acheter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a viande de boeu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a viande de por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’agne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lap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413000"/>
            <a:ext cx="1224000" cy="885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2421000"/>
            <a:ext cx="1224000" cy="84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7" name="Picture 9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3411360"/>
            <a:ext cx="1224000" cy="80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8" name="Picture 11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4365720"/>
            <a:ext cx="122400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charcuterie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pât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saucis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jamb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rudit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1341360"/>
            <a:ext cx="1439640" cy="96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2" name="Picture 7" descr="saucisson-de-lyon"/>
          <p:cNvPicPr/>
          <p:nvPr/>
        </p:nvPicPr>
        <p:blipFill>
          <a:blip r:embed="rId3"/>
          <a:stretch/>
        </p:blipFill>
        <p:spPr>
          <a:xfrm>
            <a:off x="4500720" y="2421000"/>
            <a:ext cx="1428480" cy="93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3" name="Picture 9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3429000"/>
            <a:ext cx="1439640" cy="95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4" name="Picture 11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4468680"/>
            <a:ext cx="1406520" cy="104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Chez le traiteur, on peut acheter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plats à emporter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arottes râpé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céle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a pa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qui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pizz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260"/>
          <p:cNvPicPr/>
          <p:nvPr/>
        </p:nvPicPr>
        <p:blipFill>
          <a:blip r:embed="rId1"/>
          <a:stretch/>
        </p:blipFill>
        <p:spPr>
          <a:xfrm>
            <a:off x="5076720" y="2421000"/>
            <a:ext cx="1866960" cy="793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8" name="Picture 7" descr="01"/>
          <p:cNvPicPr/>
          <p:nvPr/>
        </p:nvPicPr>
        <p:blipFill>
          <a:blip r:embed="rId2"/>
          <a:stretch/>
        </p:blipFill>
        <p:spPr>
          <a:xfrm>
            <a:off x="5076720" y="1413000"/>
            <a:ext cx="1866960" cy="86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paella"/>
          <p:cNvPicPr/>
          <p:nvPr/>
        </p:nvPicPr>
        <p:blipFill>
          <a:blip r:embed="rId3"/>
          <a:stretch/>
        </p:blipFill>
        <p:spPr>
          <a:xfrm>
            <a:off x="5076720" y="3357720"/>
            <a:ext cx="1871640" cy="934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0" name="Picture 11" descr="quiche"/>
          <p:cNvPicPr/>
          <p:nvPr/>
        </p:nvPicPr>
        <p:blipFill>
          <a:blip r:embed="rId4"/>
          <a:stretch/>
        </p:blipFill>
        <p:spPr>
          <a:xfrm>
            <a:off x="5076720" y="4437000"/>
            <a:ext cx="1871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1" name="Picture 13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6720" y="5445000"/>
            <a:ext cx="1871640" cy="7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’épicerie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Beaucoup de chose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fruits et légu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a viande et du pois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p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ya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gâtea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mouchoi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PFruit"/>
          <p:cNvPicPr/>
          <p:nvPr/>
        </p:nvPicPr>
        <p:blipFill>
          <a:blip r:embed="rId1"/>
          <a:stretch/>
        </p:blipFill>
        <p:spPr>
          <a:xfrm>
            <a:off x="5364000" y="1341360"/>
            <a:ext cx="1238400" cy="7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5" name="Picture 9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2276640"/>
            <a:ext cx="1152720" cy="79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6" name="Picture 11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64000" y="3213000"/>
            <a:ext cx="1224000" cy="78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7" name="Picture 13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64000" y="4149720"/>
            <a:ext cx="122400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8" name="Picture 15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64000" y="5157720"/>
            <a:ext cx="1224000" cy="71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9" name="Picture 17" descr="Go to full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64000" y="6021360"/>
            <a:ext cx="1224000" cy="64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0" name="Picture 19" descr="Go to full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04000" y="1341360"/>
            <a:ext cx="1143000" cy="743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1" name="Picture 21" descr="Go to full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364000" y="2276640"/>
            <a:ext cx="1190880" cy="79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librairie, on peut acheter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liv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magaz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B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journa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Livre2"/>
          <p:cNvPicPr/>
          <p:nvPr/>
        </p:nvPicPr>
        <p:blipFill>
          <a:blip r:embed="rId1"/>
          <a:stretch/>
        </p:blipFill>
        <p:spPr>
          <a:xfrm>
            <a:off x="4500720" y="1341360"/>
            <a:ext cx="1439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7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2276640"/>
            <a:ext cx="9363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6" name="Picture 9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3645000"/>
            <a:ext cx="934920" cy="122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7" name="Picture 11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51640" y="3645000"/>
            <a:ext cx="888840" cy="119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8" name="Picture 13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651640" y="2276640"/>
            <a:ext cx="954000" cy="126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15" descr="Go to full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00720" y="4941720"/>
            <a:ext cx="934920" cy="116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0" name="Picture 17" descr="Go to full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651640" y="5229360"/>
            <a:ext cx="1296720" cy="86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u marché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fruits et des légu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a viande et du pois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vêt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hauss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produits régiona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1268280"/>
            <a:ext cx="1143000" cy="7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4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268280"/>
            <a:ext cx="1190880" cy="762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5" name="Picture 9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2182680"/>
            <a:ext cx="1190880" cy="88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6" name="Picture 15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2205000"/>
            <a:ext cx="863640" cy="11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7" name="Picture 17" descr="Go to full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16360" y="3213000"/>
            <a:ext cx="1224000" cy="81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8" name="Picture 19" descr="Go to full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16360" y="4149720"/>
            <a:ext cx="1224000" cy="85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9" name="Picture 21" descr="Go to fullsize ima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16360" y="5168880"/>
            <a:ext cx="1238400" cy="9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0" name="Picture 23" descr="Go to fullsize ima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189840" y="5156280"/>
            <a:ext cx="1190520" cy="93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pharmacie, on peut acheter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médica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brosses à 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dentifr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’aspirine, du paracétam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pans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484280"/>
            <a:ext cx="1584360" cy="93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7" descr="Go to fullsize image"/>
          <p:cNvPicPr/>
          <p:nvPr/>
        </p:nvPicPr>
        <p:blipFill>
          <a:blip r:embed="rId3"/>
          <a:stretch/>
        </p:blipFill>
        <p:spPr>
          <a:xfrm>
            <a:off x="5580000" y="2492280"/>
            <a:ext cx="1584360" cy="43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5" name="Picture 11" descr="img_news_0708_colgate_sensitive"/>
          <p:cNvPicPr/>
          <p:nvPr/>
        </p:nvPicPr>
        <p:blipFill>
          <a:blip r:embed="rId4"/>
          <a:stretch/>
        </p:blipFill>
        <p:spPr>
          <a:xfrm>
            <a:off x="5580000" y="2997360"/>
            <a:ext cx="1584360" cy="110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6" name="Picture 13" descr="aspirine500mggroot"/>
          <p:cNvPicPr/>
          <p:nvPr/>
        </p:nvPicPr>
        <p:blipFill>
          <a:blip r:embed="rId5"/>
          <a:stretch/>
        </p:blipFill>
        <p:spPr>
          <a:xfrm>
            <a:off x="5580000" y="3716280"/>
            <a:ext cx="1584360" cy="1658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chemists_own_paracetamol"/>
          <p:cNvPicPr/>
          <p:nvPr/>
        </p:nvPicPr>
        <p:blipFill>
          <a:blip r:embed="rId6"/>
          <a:stretch/>
        </p:blipFill>
        <p:spPr>
          <a:xfrm>
            <a:off x="7236000" y="4221000"/>
            <a:ext cx="1352520" cy="64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8" name="Picture 17" descr="hansa_gelact_fic"/>
          <p:cNvPicPr/>
          <p:nvPr/>
        </p:nvPicPr>
        <p:blipFill>
          <a:blip r:embed="rId7"/>
          <a:stretch/>
        </p:blipFill>
        <p:spPr>
          <a:xfrm>
            <a:off x="5651640" y="5013360"/>
            <a:ext cx="1152360" cy="151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poissonnerie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Beaucoup de poisson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th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saum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mo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revet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cra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5" descr="se-12"/>
          <p:cNvPicPr/>
          <p:nvPr/>
        </p:nvPicPr>
        <p:blipFill>
          <a:blip r:embed="rId1"/>
          <a:stretch/>
        </p:blipFill>
        <p:spPr>
          <a:xfrm>
            <a:off x="4932360" y="1484280"/>
            <a:ext cx="1800360" cy="10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2" name="Picture 7" descr="salmon_fillet4"/>
          <p:cNvPicPr/>
          <p:nvPr/>
        </p:nvPicPr>
        <p:blipFill>
          <a:blip r:embed="rId2"/>
          <a:stretch/>
        </p:blipFill>
        <p:spPr>
          <a:xfrm>
            <a:off x="4932360" y="2565360"/>
            <a:ext cx="1800360" cy="10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9" descr="mussels"/>
          <p:cNvPicPr/>
          <p:nvPr/>
        </p:nvPicPr>
        <p:blipFill>
          <a:blip r:embed="rId3"/>
          <a:stretch/>
        </p:blipFill>
        <p:spPr>
          <a:xfrm>
            <a:off x="4932360" y="3716280"/>
            <a:ext cx="1800360" cy="10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13" descr="NSFW126"/>
          <p:cNvPicPr/>
          <p:nvPr/>
        </p:nvPicPr>
        <p:blipFill>
          <a:blip r:embed="rId4"/>
          <a:stretch/>
        </p:blipFill>
        <p:spPr>
          <a:xfrm>
            <a:off x="4932360" y="4799160"/>
            <a:ext cx="1800360" cy="934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15" descr="tourteau"/>
          <p:cNvPicPr/>
          <p:nvPr/>
        </p:nvPicPr>
        <p:blipFill>
          <a:blip r:embed="rId5"/>
          <a:stretch/>
        </p:blipFill>
        <p:spPr>
          <a:xfrm>
            <a:off x="4932360" y="5805360"/>
            <a:ext cx="1800360" cy="93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u supermarché, on peut acheter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Beaucoup de chose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a nourri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ray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jou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vêt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produits de beaut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crayons"/>
          <p:cNvPicPr/>
          <p:nvPr/>
        </p:nvPicPr>
        <p:blipFill>
          <a:blip r:embed="rId1"/>
          <a:stretch/>
        </p:blipFill>
        <p:spPr>
          <a:xfrm>
            <a:off x="4788000" y="2565360"/>
            <a:ext cx="172872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Picture 7" descr="Supermarket"/>
          <p:cNvPicPr/>
          <p:nvPr/>
        </p:nvPicPr>
        <p:blipFill>
          <a:blip r:embed="rId2"/>
          <a:stretch/>
        </p:blipFill>
        <p:spPr>
          <a:xfrm>
            <a:off x="4788000" y="3573360"/>
            <a:ext cx="172872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0" name="Picture 9" descr="supermarket"/>
          <p:cNvPicPr/>
          <p:nvPr/>
        </p:nvPicPr>
        <p:blipFill>
          <a:blip r:embed="rId3"/>
          <a:stretch/>
        </p:blipFill>
        <p:spPr>
          <a:xfrm>
            <a:off x="4788000" y="1557360"/>
            <a:ext cx="1728720" cy="86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1" name="Picture 11" descr="blade_runner_clothes"/>
          <p:cNvPicPr/>
          <p:nvPr/>
        </p:nvPicPr>
        <p:blipFill>
          <a:blip r:embed="rId4"/>
          <a:stretch/>
        </p:blipFill>
        <p:spPr>
          <a:xfrm>
            <a:off x="4788000" y="4581360"/>
            <a:ext cx="1728720" cy="100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13" descr="beauty_store_main"/>
          <p:cNvPicPr/>
          <p:nvPr/>
        </p:nvPicPr>
        <p:blipFill>
          <a:blip r:embed="rId5"/>
          <a:stretch/>
        </p:blipFill>
        <p:spPr>
          <a:xfrm>
            <a:off x="4788000" y="5732640"/>
            <a:ext cx="1728720" cy="79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GODIVA,Godiva_Chocolatier_on_%2bROBSONST-Robson_St%2b-20010806"/>
          <p:cNvPicPr/>
          <p:nvPr/>
        </p:nvPicPr>
        <p:blipFill>
          <a:blip r:embed="rId1"/>
          <a:stretch/>
        </p:blipFill>
        <p:spPr>
          <a:xfrm>
            <a:off x="2114640" y="1585800"/>
            <a:ext cx="49147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u bureau de tabac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igaret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artes à gra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timb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hewing-gu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magaz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5" descr="cigarettes"/>
          <p:cNvPicPr/>
          <p:nvPr/>
        </p:nvPicPr>
        <p:blipFill>
          <a:blip r:embed="rId1"/>
          <a:stretch/>
        </p:blipFill>
        <p:spPr>
          <a:xfrm>
            <a:off x="4500720" y="1125360"/>
            <a:ext cx="1800000" cy="100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6" name="Picture 7" descr="tacotac"/>
          <p:cNvPicPr/>
          <p:nvPr/>
        </p:nvPicPr>
        <p:blipFill>
          <a:blip r:embed="rId2"/>
          <a:stretch/>
        </p:blipFill>
        <p:spPr>
          <a:xfrm>
            <a:off x="4500720" y="2205000"/>
            <a:ext cx="1800000" cy="10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7" name="Picture 9" descr="sriimg20051116_6243065_0"/>
          <p:cNvPicPr/>
          <p:nvPr/>
        </p:nvPicPr>
        <p:blipFill>
          <a:blip r:embed="rId3"/>
          <a:stretch/>
        </p:blipFill>
        <p:spPr>
          <a:xfrm>
            <a:off x="4500720" y="3286080"/>
            <a:ext cx="1800000" cy="107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8" name="Picture 11" descr="_39187805_gum203"/>
          <p:cNvPicPr/>
          <p:nvPr/>
        </p:nvPicPr>
        <p:blipFill>
          <a:blip r:embed="rId4"/>
          <a:stretch/>
        </p:blipFill>
        <p:spPr>
          <a:xfrm>
            <a:off x="4500720" y="4437000"/>
            <a:ext cx="1800000" cy="90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9" name="Picture 12" descr="Go to fullsize image"/>
          <p:cNvPicPr/>
          <p:nvPr/>
        </p:nvPicPr>
        <p:blipFill>
          <a:blip r:embed="rId5"/>
          <a:stretch/>
        </p:blipFill>
        <p:spPr>
          <a:xfrm>
            <a:off x="4500720" y="5445000"/>
            <a:ext cx="93636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0" name="Picture 13" descr="Go to fullsize image"/>
          <p:cNvPicPr/>
          <p:nvPr/>
        </p:nvPicPr>
        <p:blipFill>
          <a:blip r:embed="rId6"/>
          <a:stretch/>
        </p:blipFill>
        <p:spPr>
          <a:xfrm>
            <a:off x="5651640" y="5445000"/>
            <a:ext cx="954000" cy="126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539640" y="1557360"/>
            <a:ext cx="815364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oilà, maintenant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u peux faire les courses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" name="Picture 6" descr="euros"/>
          <p:cNvPicPr/>
          <p:nvPr/>
        </p:nvPicPr>
        <p:blipFill>
          <a:blip r:embed="rId5"/>
          <a:stretch/>
        </p:blipFill>
        <p:spPr>
          <a:xfrm>
            <a:off x="755640" y="3429000"/>
            <a:ext cx="3673440" cy="310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3" name="Picture 8" descr="Euros"/>
          <p:cNvPicPr/>
          <p:nvPr/>
        </p:nvPicPr>
        <p:blipFill>
          <a:blip r:embed="rId6"/>
          <a:stretch/>
        </p:blipFill>
        <p:spPr>
          <a:xfrm>
            <a:off x="4859280" y="3429000"/>
            <a:ext cx="3673440" cy="306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85_boucherie_bourd"/>
          <p:cNvPicPr/>
          <p:nvPr/>
        </p:nvPicPr>
        <p:blipFill>
          <a:blip r:embed="rId1"/>
          <a:stretch/>
        </p:blipFill>
        <p:spPr>
          <a:xfrm>
            <a:off x="2771640" y="1989000"/>
            <a:ext cx="410544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Charcuterie"/>
          <p:cNvPicPr/>
          <p:nvPr/>
        </p:nvPicPr>
        <p:blipFill>
          <a:blip r:embed="rId1"/>
          <a:stretch/>
        </p:blipFill>
        <p:spPr>
          <a:xfrm>
            <a:off x="2124000" y="1484280"/>
            <a:ext cx="53373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107_traiteur_zhon"/>
          <p:cNvPicPr/>
          <p:nvPr/>
        </p:nvPicPr>
        <p:blipFill>
          <a:blip r:embed="rId1"/>
          <a:stretch/>
        </p:blipFill>
        <p:spPr>
          <a:xfrm>
            <a:off x="2771640" y="1916280"/>
            <a:ext cx="4176720" cy="34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epicerie-amelie-poulain"/>
          <p:cNvPicPr/>
          <p:nvPr/>
        </p:nvPicPr>
        <p:blipFill>
          <a:blip r:embed="rId1"/>
          <a:stretch/>
        </p:blipFill>
        <p:spPr>
          <a:xfrm>
            <a:off x="1805040" y="1585800"/>
            <a:ext cx="5533920" cy="3686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924360" y="2492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Showcard Gothic"/>
              </a:rPr>
              <a:t>Epicerie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librairie5"/>
          <p:cNvPicPr/>
          <p:nvPr/>
        </p:nvPicPr>
        <p:blipFill>
          <a:blip r:embed="rId1"/>
          <a:stretch/>
        </p:blipFill>
        <p:spPr>
          <a:xfrm>
            <a:off x="1905120" y="1585800"/>
            <a:ext cx="53337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2_marche"/>
          <p:cNvPicPr/>
          <p:nvPr/>
        </p:nvPicPr>
        <p:blipFill>
          <a:blip r:embed="rId1"/>
          <a:stretch/>
        </p:blipFill>
        <p:spPr>
          <a:xfrm>
            <a:off x="2124000" y="1628640"/>
            <a:ext cx="5473800" cy="3686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572000" y="465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Showcard Gothic"/>
              </a:rPr>
              <a:t>Marché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2:39:39Z</dcterms:created>
  <dc:creator>Virginie Passerat</dc:creator>
  <dc:description/>
  <dc:language>en-US</dc:language>
  <cp:lastModifiedBy>Nicolas</cp:lastModifiedBy>
  <dcterms:modified xsi:type="dcterms:W3CDTF">2010-03-09T22:59:22Z</dcterms:modified>
  <cp:revision>93</cp:revision>
  <dc:subject/>
  <dc:title>Slide 1</dc:title>
</cp:coreProperties>
</file>